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A8EF-34E6-4191-B5C1-0F5349513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9258-659D-49F9-B3FC-05F49899954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9451-8D74-45D8-A21A-EE134DE2CCF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6122-1460-4A80-83E0-B902987E3EB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sp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62BD-5AA5-46E2-88F0-052C2436F6A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hotosystem is not en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o lift electron in 2 stages to a higher energy level. Does work as it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produce ATP -- but producing ATP is not enoug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need to produce organic molecules for other uses &amp; also need to produce a stable storage molecule for a rainy day (sugars). This is done in Calvin Cyc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7299-1772-4C87-AE24-EEF2C5C69E4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0457-8B44-453C-ABEF-930C71F8FC2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239A-5155-461C-AC7A-0B30A379775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DE4F-0873-4CB2-A36B-BC6CE93684B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P = ribulose bis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isco = ribulose bisphosphate carbox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A = phosphoglyc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AL = phosphoglyceraldehy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4E9E-5A91-47E6-A80C-161D4657374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08A8-CDAE-4D31-84E7-2540B0D7DA3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43A5-18CA-435C-946E-C1F8BF86427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effect, photosynthesis is respiration run backwards powered by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 of electrons downhill to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 electrons uphill by splitting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065E-829C-451A-B6C8-9A9858722E3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27F2-F486-4E20-9E49-E1CB95BDA72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5651-D04D-4CA7-BD9E-F82A8D3B60D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7C4D-99C6-4E22-A3C6-6A1A9B6EC55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E707-883D-41D6-8125-EDAE6F2ECA6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 mesophyll cell has 30-40 chloroplasts, each about 2-4 microns by 4-7 micron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hloroplast has two membranes around a central aqueous space, the stro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roma are membranous sacs,  the thylak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ve an internal aqueous space, the thylakoid lumen or thylakoid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lakoids may be stacked into columns called gr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11AE-8886-4BBB-A000-C5635315153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tion of chlorophyll molecule is due to polarity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F63B-C2CE-43DD-B4C2-8E313AF5B3C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88B6-EE43-4B1C-A04F-BCD675118C7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56AA-A07E-41AF-8490-ADE062CAE65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ccidental that these 2 systems are similar, because both derived from the same primitive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59E1-B7D4-480F-A1D9-F0A77CA8E2D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absorbed by clusters of pigment molecules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 molecule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ylakoid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y antenna molecule absorbs a photon, it is transmitted from molecule to molecule until it reaches a particular chlorophyl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lecule =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ction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reaction center i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electron 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removes an excited electron from the reaction center chlorophyll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starts the light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compete with each other, work synergistically using different wavelengths.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08__x0008__x0008__x0008__x0008__x0008__x0008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CB37-2747-4578-B4CC-EF3191B79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DE04-5663-40E9-B415-4ADE938D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2EE7B-1709-41C1-84AF-AB7F8ACB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07733-FB92-43F1-9106-88264C6E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21852-0D60-462D-AE35-AED83C91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C92BC-968E-4EAA-A0BE-99957DEB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BED3F-4EF0-452A-9D86-54682C49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E2AFA-0C79-4EFA-8929-7C951875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FE13B-8224-452F-A9DC-E8B10B29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E053E-C0AA-4C39-865A-449D7F75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C7D0A-E90B-41D1-9C66-02E70CAB62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45C049-85D4-4752-A674-DCA3E7D8D3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45D4-0D4A-4262-A1C7-7F2E875E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E8A272-2C3C-4ED7-A6F9-9CFBEE87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57F3EF-3E81-4257-B2D2-23222850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B1910D-FEA9-4A50-8E83-45900651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129F20-4BC6-4309-8C5F-BA68F79E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7C0F2D-AC8B-4E6E-A924-ECFC5E7F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08FA83-F69B-4C09-A9BD-1432DBA2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037FEB-1A72-485D-8DFD-1ADC4B8E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551A68-ACC9-4B36-9808-312EE039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197180-21D0-4756-9CD6-C532C749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89298F-D920-4E92-9E19-CA6A4D7E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44E8-6E83-46A1-8C2F-4CD1B8B05D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963896-8B7D-4BA6-903B-681DBF29AB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8A3E6-965B-4EDF-B484-20ADFEA030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233AE-C74C-47BF-ABBF-F0585397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50F00-544B-491B-B134-E967846A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CF1DD-19B6-49C6-BD2B-7BD01A66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EC8F4-FBE2-48D9-AF52-9DADDC93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4B988-6F2F-4DF8-A3CB-0070B08F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21797-9073-4DAF-A5CA-3D19CC46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12796-C80E-433A-AC79-B61EED5A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C8235-B05C-4852-8911-50AFE80F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DC42B-E023-4815-B8A5-47E09FDE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7A4EE-5A3B-4EC0-AD6C-B8A8429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CCFEE-9B57-4A20-9DC2-6C237E769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1F32AD-5B27-4986-B74D-F9C3A3B2FB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A4004-A0E4-4C1F-9F1F-0C3026FE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59E48B-A71C-492B-8B03-4402AA1C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02BEE-7028-41B5-86E6-5CF40702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2619A-C6DA-4E94-AF3F-07811453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D98398-F788-4C67-8F68-817D5249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B59548-3A38-4AB1-AA74-67A32BCF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A3F93E-1A58-41EF-AFEC-8335DC0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079460-6017-47FC-83CE-7D2FC1EC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0BE123-B472-4566-89C3-12286E53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5A274A-9D30-483A-ADF1-F9397100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6DB79A-D0A7-4B86-84CA-9CCEFEC46B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68E3-6E69-453F-8B6D-0C1402C2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38FAE-638C-4D17-B686-1BA0DC8610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8892B-70A9-492C-8A9D-BC68D59D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DAE1A-D8D0-49D1-9616-FB3CC143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3FB57-0FE3-45B9-AD3C-11443171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6DB01-37E5-4861-8AF7-A99E6ABC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DE16-86BA-4DB1-B39E-68482525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2EC20-981B-4752-890B-A7540A61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2848D-EFD9-49D5-B9CA-16E60B74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6F267-9E47-48C2-8715-3FEBAD25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02E7A-5DFD-4A78-BFC5-95327899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BC578-85F7-4D7B-8B56-8DE24EB2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CBE1E-4052-4C48-89DE-26D0235A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DF114-C36F-486D-9734-249BD92922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BD2503-6A03-4359-A9D4-7B2FFF11DD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5A01D-D6B3-4E6C-B4D2-DD42E577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37FE7-544F-49EF-AD14-75CB0A80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5078-8271-4D70-9439-C05F7F0B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2B2E0-74BD-408B-881A-3C2C0B38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62C8F0-5470-4B89-8B1B-A7BDBC92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D85B0-6FC2-4FF4-B603-70C6E189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7719D-1678-4A71-A0E6-70D35748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1A262-46FC-42D6-9B7D-9F79F831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F2B388-2CFF-4E58-BCA6-F55CAB5F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133B5C-3240-4B63-BBF0-10F8575B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E38AA4-5A7E-482A-A47F-162E158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7BA49-036A-4235-AA16-8C4BF3BA3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2DBA-B5D7-46A3-A0D1-DB1FB5DEFA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60D3-6EBA-4BD1-81BA-D5011701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E79A-9519-4BDF-8B44-1943D45B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BDB3-9CE4-4D02-BB04-C5D4EAEC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718D-1806-40FE-AEF4-56C03981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F617-784E-4BAC-95C4-9AB326F2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80D5-EFB4-41FB-A2C1-C41FD26F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8A133-AE78-4F89-B9F6-CD6ED929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60259-1DAD-4B5A-A008-7C94A5E5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8485-C29F-41BB-B628-CF0B9CD2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1029-E51C-47C4-B15E-CDF48E27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2069-E17F-4F22-BE5F-0BDE4B11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889E-C218-47ED-AB40-7925B661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5144-4F67-4760-B1DC-A638764AC4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FC6DE-AA4E-4454-A885-F43D7F3F7E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993DE-A2E7-4BB3-9BB7-BCFD0F2F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488D5-54CA-4A0A-995C-04D8A29D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0C823-9446-4B90-98BE-A9B2402A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CB7F2-CDFA-4D01-8702-4EDB202B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9EE40-2237-4079-8705-5109F349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7ACB5A-3D7E-4968-94DE-350A68C2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805DD-3E8F-4B10-AB96-14F24B52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C52CA-C1AF-4B40-966D-44EE461F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1918-0611-4DB4-8EB3-F32CB6D0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C5584-1AFC-44C8-A9AC-E19DE305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85BD8-5349-4CAB-8661-677BE07E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F7EDCA-BC9E-418A-98D7-DDED033D32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9FF8E-7412-44AD-AE8C-02FB36310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F7C81C-D604-426D-A06E-6463497C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091436-8D00-483A-9CF5-2F3DD324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FC1C9E-6A17-4B1D-BB25-5798F8DF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7F0D92-E12C-4E3C-871D-13CAF0C6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063187-8E3A-472E-A5FF-E9003962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00817E-EED7-4E91-8323-77BFD4B3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6F99-F38E-481E-A5A4-6792DA7D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0958D5-3E3C-4976-B5E7-EBF58F17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B82A8D-5553-45D6-8438-6886323A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37F049-AB84-40C9-BB9A-0A40B497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29C007-026B-4846-951A-C5FF42D2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C16FA2-E7F8-405C-A633-AA01DD470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AD717-E8BF-49D9-A256-A6235BF7DD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594A2-989B-4CAC-A4A1-E46B0B41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1B6C1-114C-4A7C-A390-5FD40887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4BDF7-0358-493B-A37E-F4955C83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E4E7B-5B07-42B3-AAAA-B519AD5F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7B98-5C5A-4C1D-BFAE-04A328F6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C6780-DE4E-4274-BF2D-0E8FDD59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72D66-6CF3-4E0C-95E9-AE3CC8E5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DB1BA-ABEE-41B5-97C0-7DF8E52A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2CC3-BCFB-4FED-8797-1B9B0B86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661F7-DCE4-4115-8D97-4424DBCF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1F660-1C13-403A-851A-F472BE24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D8F0E-B7EF-47D1-BBD3-7BB9101615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A9A39-CDBD-4A71-86C9-E362D4AFD4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C41E5-A7C9-474C-8252-E467FEC6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80226-C182-4FB7-A788-73FACC69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CC51-3C4E-4E9A-8B47-CFD5F2893A8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9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9833-0295-4F21-87C6-F5DB6CF4684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dt" idx="20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64F1-C009-45A1-A32E-BD987F61330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dt" idx="2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3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60DF-B56C-458E-8A60-6DA4938FAF3D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dt" idx="24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2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6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Num" idx="5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5FBA-F5F5-4210-8B85-87E5060102F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6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2B13-514E-4B25-92C3-FF33F81AD95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dt" idx="8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9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3E1A-488C-4463-AEA5-A8B850EDF82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0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D83F-99AD-4F1C-941E-F305957485D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1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3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1492-FD97-4DE2-B4BD-BC9A7A45B88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dt" idx="14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5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9CC6-7589-423C-BB0D-06D96CB5EB9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dt" idx="16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BEBE-7577-4CF5-8A5C-9F65686FC66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dt" idx="18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/>
          <p:cNvSpPr/>
          <p:nvPr/>
        </p:nvSpPr>
        <p:spPr>
          <a:xfrm>
            <a:off x="4495680" y="3276720"/>
            <a:ext cx="1828800" cy="12794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1960 h 1279440"/>
              <a:gd name="textAreaBottom" fmla="*/ 98748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Lif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igh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8194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TC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TC produces from </a:t>
            </a:r>
            <a:r>
              <a:rPr b="1" lang="en-US" sz="2600" spc="-1" strike="noStrike">
                <a:solidFill>
                  <a:srgbClr val="0c8f0f"/>
                </a:solidFill>
                <a:latin typeface="Arial"/>
              </a:rPr>
              <a:t>light energ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PH (stored energy)</a:t>
            </a:r>
            <a:r>
              <a:rPr b="1" lang="en-US" sz="2000" spc="-1" strike="noStrike">
                <a:solidFill>
                  <a:srgbClr val="3d1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oes to Calvin cycl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S II absorbs </a:t>
            </a:r>
            <a:r>
              <a:rPr b="1" lang="en-US" sz="2600" spc="-1" strike="noStrike">
                <a:solidFill>
                  <a:srgbClr val="0c8f0f"/>
                </a:solidFill>
                <a:latin typeface="Arial"/>
              </a:rPr>
              <a:t>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cited electron passes from chlorophyll to “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primary electron accepto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 at the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CTION CENTE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plits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4a402"/>
                </a:solidFill>
                <a:latin typeface="Arial"/>
              </a:rPr>
              <a:t>(Photolysis!!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leased to atmosphe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P is produced for later u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1440" y="568440"/>
            <a:ext cx="9002880" cy="621324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3"/>
          <p:cNvSpPr/>
          <p:nvPr/>
        </p:nvSpPr>
        <p:spPr>
          <a:xfrm>
            <a:off x="4919040" y="42480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2647800" y="998640"/>
            <a:ext cx="2349360" cy="1755720"/>
            <a:chOff x="2647800" y="998640"/>
            <a:chExt cx="2349360" cy="1755720"/>
          </a:xfrm>
        </p:grpSpPr>
        <p:sp>
          <p:nvSpPr>
            <p:cNvPr id="668" name="Rectangle 9"/>
            <p:cNvSpPr/>
            <p:nvPr/>
          </p:nvSpPr>
          <p:spPr>
            <a:xfrm>
              <a:off x="2647800" y="998640"/>
              <a:ext cx="2349360" cy="459720"/>
            </a:xfrm>
            <a:prstGeom prst="rect">
              <a:avLst/>
            </a:prstGeom>
            <a:noFill/>
            <a:ln w="28440">
              <a:solidFill>
                <a:srgbClr val="8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800"/>
                  </a:solidFill>
                  <a:uFillTx/>
                  <a:latin typeface="Arial"/>
                </a:rPr>
                <a:t>Photosystem II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9" name="Line 12"/>
            <p:cNvSpPr/>
            <p:nvPr/>
          </p:nvSpPr>
          <p:spPr>
            <a:xfrm flipH="1">
              <a:off x="3166920" y="1380960"/>
              <a:ext cx="412560" cy="1373400"/>
            </a:xfrm>
            <a:prstGeom prst="line">
              <a:avLst/>
            </a:prstGeom>
            <a:ln w="38160">
              <a:solidFill>
                <a:srgbClr val="04a4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70" name="Group 16"/>
          <p:cNvGrpSpPr/>
          <p:nvPr/>
        </p:nvGrpSpPr>
        <p:grpSpPr>
          <a:xfrm>
            <a:off x="4330440" y="1609560"/>
            <a:ext cx="2264040" cy="1073160"/>
            <a:chOff x="4330440" y="1609560"/>
            <a:chExt cx="2264040" cy="1073160"/>
          </a:xfrm>
        </p:grpSpPr>
        <p:sp>
          <p:nvSpPr>
            <p:cNvPr id="671" name="Rectangle 11"/>
            <p:cNvSpPr/>
            <p:nvPr/>
          </p:nvSpPr>
          <p:spPr>
            <a:xfrm>
              <a:off x="4330440" y="1609560"/>
              <a:ext cx="2264040" cy="459720"/>
            </a:xfrm>
            <a:prstGeom prst="rect">
              <a:avLst/>
            </a:prstGeom>
            <a:noFill/>
            <a:ln w="28440">
              <a:solidFill>
                <a:srgbClr val="8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800"/>
                  </a:solidFill>
                  <a:uFillTx/>
                  <a:latin typeface="Arial"/>
                </a:rPr>
                <a:t>Photosystem I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72" name="Line 13"/>
            <p:cNvSpPr/>
            <p:nvPr/>
          </p:nvSpPr>
          <p:spPr>
            <a:xfrm flipH="1">
              <a:off x="5651280" y="2008080"/>
              <a:ext cx="198360" cy="674640"/>
            </a:xfrm>
            <a:prstGeom prst="line">
              <a:avLst/>
            </a:prstGeom>
            <a:ln w="38160">
              <a:solidFill>
                <a:srgbClr val="04a4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oncyclic Photo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724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ght reactions elevate electron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steps (PS II &amp; PS I)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PS II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a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PS I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ducing power as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yclic photo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724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PS I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’t pass electron to NADP, it cycles back to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PS II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makes more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but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no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NADP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ordinates light reactions to Calvin cyc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lvin cycle uses more ATP than 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1" name="AutoShape 5"/>
          <p:cNvSpPr/>
          <p:nvPr/>
        </p:nvSpPr>
        <p:spPr>
          <a:xfrm flipH="1" rot="19997400">
            <a:off x="5790960" y="1523520"/>
            <a:ext cx="1981080" cy="610200"/>
          </a:xfrm>
          <a:custGeom>
            <a:avLst/>
            <a:gdLst>
              <a:gd name="textAreaLeft" fmla="*/ 365760 w 1981080"/>
              <a:gd name="textAreaRight" fmla="*/ 1338480 w 1981080"/>
              <a:gd name="textAreaTop" fmla="*/ 81720 h 610200"/>
              <a:gd name="textAreaBottom" fmla="*/ 528480 h 61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86" hR="21600" stAng="10800000" swAng="5400000"/>
                <a:lnTo>
                  <a:pt x="10602" y="0"/>
                </a:lnTo>
                <a:arcTo wR="7986" hR="21600" stAng="-5400000" swAng="2776838"/>
                <a:lnTo>
                  <a:pt x="21143" y="14400"/>
                </a:lnTo>
                <a:lnTo>
                  <a:pt x="17280" y="21600"/>
                </a:lnTo>
                <a:lnTo>
                  <a:pt x="12503" y="14400"/>
                </a:lnTo>
                <a:lnTo>
                  <a:pt x="15515" y="14400"/>
                </a:lnTo>
                <a:arcTo wR="7986" hR="21600" stAng="-2623162" swAng="-2566078"/>
                <a:lnTo>
                  <a:pt x="9294" y="292"/>
                </a:lnTo>
                <a:arcTo wR="7986" hR="21600" stAng="-5610760" swAng="-5189240"/>
                <a:close/>
              </a:path>
              <a:path fill="darkenLess" w="21600" h="21600">
                <a:moveTo>
                  <a:pt x="0" y="21600"/>
                </a:moveTo>
                <a:arcTo wR="7986" hR="21600" stAng="10800000" swAng="5400000"/>
                <a:lnTo>
                  <a:pt x="7986" y="0"/>
                </a:lnTo>
                <a:arcTo wR="7986" hR="21600" stAng="-5400000" swAng="210760"/>
                <a:lnTo>
                  <a:pt x="9294" y="292"/>
                </a:lnTo>
                <a:arcTo wR="7986" hR="21600" stAng="-5610760" swAng="-5189240"/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2" name="Rectangle 8"/>
          <p:cNvSpPr/>
          <p:nvPr/>
        </p:nvSpPr>
        <p:spPr>
          <a:xfrm>
            <a:off x="7999200" y="2785320"/>
            <a:ext cx="706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6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Light reactions to 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vin cyc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hloroplast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strom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products of light reactions to drive synthesis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What is ther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left to d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Make suga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86" name="Picture 4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3809880" y="3355920"/>
            <a:ext cx="53341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C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has very little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ully oxidiz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ains a lot of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duc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dergon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duction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ceeds in many small uphill step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catalyzed by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ecific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ing energy stored in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54000" y="2853360"/>
            <a:ext cx="2765520" cy="1989360"/>
            <a:chOff x="54000" y="2853360"/>
            <a:chExt cx="2765520" cy="1989360"/>
          </a:xfrm>
        </p:grpSpPr>
        <p:sp>
          <p:nvSpPr>
            <p:cNvPr id="690" name="Oval 3"/>
            <p:cNvSpPr/>
            <p:nvPr/>
          </p:nvSpPr>
          <p:spPr>
            <a:xfrm>
              <a:off x="1828800" y="3962520"/>
              <a:ext cx="990720" cy="53316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1" name="Rectangle 4"/>
            <p:cNvSpPr/>
            <p:nvPr/>
          </p:nvSpPr>
          <p:spPr>
            <a:xfrm>
              <a:off x="54000" y="3047760"/>
              <a:ext cx="1314720" cy="8974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o make 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glucos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2" name="AutoShape 5"/>
            <p:cNvSpPr/>
            <p:nvPr/>
          </p:nvSpPr>
          <p:spPr>
            <a:xfrm flipH="1" flipV="1" rot="19608600">
              <a:off x="1294920" y="2933640"/>
              <a:ext cx="838440" cy="1828800"/>
            </a:xfrm>
            <a:custGeom>
              <a:avLst/>
              <a:gdLst>
                <a:gd name="textAreaLeft" fmla="*/ 122040 w 838440"/>
                <a:gd name="textAreaRight" fmla="*/ 716400 w 838440"/>
                <a:gd name="textAreaTop" fmla="*/ 268200 h 1828800"/>
                <a:gd name="textAreaBottom" fmla="*/ 156060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939" y="10435"/>
                  </a:moveTo>
                  <a:cubicBezTo>
                    <a:pt x="18744" y="6081"/>
                    <a:pt x="15158" y="2652"/>
                    <a:pt x="10800" y="2652"/>
                  </a:cubicBezTo>
                  <a:cubicBezTo>
                    <a:pt x="10052" y="2651"/>
                    <a:pt x="9308" y="2754"/>
                    <a:pt x="8588" y="2957"/>
                  </a:cubicBezTo>
                  <a:lnTo>
                    <a:pt x="7868" y="405"/>
                  </a:lnTo>
                  <a:cubicBezTo>
                    <a:pt x="8822" y="136"/>
                    <a:pt x="9808" y="-1"/>
                    <a:pt x="10800" y="0"/>
                  </a:cubicBezTo>
                  <a:cubicBezTo>
                    <a:pt x="16576" y="0"/>
                    <a:pt x="21330" y="4545"/>
                    <a:pt x="21589" y="10316"/>
                  </a:cubicBezTo>
                  <a:lnTo>
                    <a:pt x="24286" y="10195"/>
                  </a:lnTo>
                  <a:lnTo>
                    <a:pt x="20444" y="14397"/>
                  </a:lnTo>
                  <a:lnTo>
                    <a:pt x="16242" y="10555"/>
                  </a:lnTo>
                  <a:lnTo>
                    <a:pt x="18939" y="10435"/>
                  </a:ln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93" name="Group 6"/>
          <p:cNvGrpSpPr/>
          <p:nvPr/>
        </p:nvGrpSpPr>
        <p:grpSpPr>
          <a:xfrm>
            <a:off x="3024360" y="1752480"/>
            <a:ext cx="4190760" cy="4648320"/>
            <a:chOff x="3024360" y="1752480"/>
            <a:chExt cx="4190760" cy="4648320"/>
          </a:xfrm>
        </p:grpSpPr>
        <p:sp>
          <p:nvSpPr>
            <p:cNvPr id="694" name="AutoShape 7"/>
            <p:cNvSpPr/>
            <p:nvPr/>
          </p:nvSpPr>
          <p:spPr>
            <a:xfrm>
              <a:off x="4959360" y="175248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5" name="Oval 8"/>
            <p:cNvSpPr/>
            <p:nvPr/>
          </p:nvSpPr>
          <p:spPr>
            <a:xfrm>
              <a:off x="3024360" y="2209680"/>
              <a:ext cx="4190760" cy="4191120"/>
            </a:xfrm>
            <a:prstGeom prst="ellipse">
              <a:avLst/>
            </a:prstGeom>
            <a:noFill/>
            <a:ln w="12708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96" name="Group 10"/>
          <p:cNvGrpSpPr/>
          <p:nvPr/>
        </p:nvGrpSpPr>
        <p:grpSpPr>
          <a:xfrm>
            <a:off x="6192720" y="2513880"/>
            <a:ext cx="668520" cy="610200"/>
            <a:chOff x="6192720" y="2513880"/>
            <a:chExt cx="668520" cy="610200"/>
          </a:xfrm>
        </p:grpSpPr>
        <p:sp>
          <p:nvSpPr>
            <p:cNvPr id="697" name="Oval 11"/>
            <p:cNvSpPr/>
            <p:nvPr/>
          </p:nvSpPr>
          <p:spPr>
            <a:xfrm>
              <a:off x="6197400" y="2514600"/>
              <a:ext cx="60912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8" name="Rectangle 12"/>
            <p:cNvSpPr/>
            <p:nvPr/>
          </p:nvSpPr>
          <p:spPr>
            <a:xfrm>
              <a:off x="6192720" y="25138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99" name="Group 14"/>
          <p:cNvGrpSpPr/>
          <p:nvPr/>
        </p:nvGrpSpPr>
        <p:grpSpPr>
          <a:xfrm>
            <a:off x="4778280" y="1219320"/>
            <a:ext cx="1330560" cy="609480"/>
            <a:chOff x="4778280" y="1219320"/>
            <a:chExt cx="1330560" cy="609480"/>
          </a:xfrm>
        </p:grpSpPr>
        <p:grpSp>
          <p:nvGrpSpPr>
            <p:cNvPr id="700" name="Group 15"/>
            <p:cNvGrpSpPr/>
            <p:nvPr/>
          </p:nvGrpSpPr>
          <p:grpSpPr>
            <a:xfrm>
              <a:off x="4778280" y="1219320"/>
              <a:ext cx="668520" cy="609480"/>
              <a:chOff x="4778280" y="1219320"/>
              <a:chExt cx="668520" cy="609480"/>
            </a:xfrm>
          </p:grpSpPr>
          <p:sp>
            <p:nvSpPr>
              <p:cNvPr id="701" name="Oval 16"/>
              <p:cNvSpPr/>
              <p:nvPr/>
            </p:nvSpPr>
            <p:spPr>
              <a:xfrm>
                <a:off x="4807080" y="1219320"/>
                <a:ext cx="60948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02" name="Rectangle 17"/>
              <p:cNvSpPr/>
              <p:nvPr/>
            </p:nvSpPr>
            <p:spPr>
              <a:xfrm>
                <a:off x="4778280" y="123300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1C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03" name="Rectangle 18"/>
            <p:cNvSpPr/>
            <p:nvPr/>
          </p:nvSpPr>
          <p:spPr>
            <a:xfrm>
              <a:off x="5420520" y="1225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04" name="Rectangle 19"/>
          <p:cNvSpPr/>
          <p:nvPr/>
        </p:nvSpPr>
        <p:spPr>
          <a:xfrm>
            <a:off x="702000" y="684720"/>
            <a:ext cx="2672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5" name="AutoShape 20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6" name="AutoShape 21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07" name="Group 22"/>
          <p:cNvGrpSpPr/>
          <p:nvPr/>
        </p:nvGrpSpPr>
        <p:grpSpPr>
          <a:xfrm>
            <a:off x="2988720" y="1904040"/>
            <a:ext cx="1612080" cy="762840"/>
            <a:chOff x="2988720" y="1904040"/>
            <a:chExt cx="1612080" cy="762840"/>
          </a:xfrm>
        </p:grpSpPr>
        <p:sp>
          <p:nvSpPr>
            <p:cNvPr id="708" name="Oval 23"/>
            <p:cNvSpPr/>
            <p:nvPr/>
          </p:nvSpPr>
          <p:spPr>
            <a:xfrm>
              <a:off x="3960720" y="2057400"/>
              <a:ext cx="60984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09" name="Group 24"/>
            <p:cNvGrpSpPr/>
            <p:nvPr/>
          </p:nvGrpSpPr>
          <p:grpSpPr>
            <a:xfrm>
              <a:off x="2988720" y="1904040"/>
              <a:ext cx="1612080" cy="703440"/>
              <a:chOff x="2988720" y="1904040"/>
              <a:chExt cx="1612080" cy="703440"/>
            </a:xfrm>
          </p:grpSpPr>
          <p:sp>
            <p:nvSpPr>
              <p:cNvPr id="710" name="Rectangle 25"/>
              <p:cNvSpPr/>
              <p:nvPr/>
            </p:nvSpPr>
            <p:spPr>
              <a:xfrm>
                <a:off x="3932280" y="20566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5C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1" name="Rectangle 26"/>
              <p:cNvSpPr/>
              <p:nvPr/>
            </p:nvSpPr>
            <p:spPr>
              <a:xfrm>
                <a:off x="2988720" y="1904040"/>
                <a:ext cx="939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RuBP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Group 27"/>
          <p:cNvGrpSpPr/>
          <p:nvPr/>
        </p:nvGrpSpPr>
        <p:grpSpPr>
          <a:xfrm>
            <a:off x="6325200" y="3961440"/>
            <a:ext cx="1928880" cy="762840"/>
            <a:chOff x="6325200" y="3961440"/>
            <a:chExt cx="1928880" cy="762840"/>
          </a:xfrm>
        </p:grpSpPr>
        <p:grpSp>
          <p:nvGrpSpPr>
            <p:cNvPr id="713" name="Group 28"/>
            <p:cNvGrpSpPr/>
            <p:nvPr/>
          </p:nvGrpSpPr>
          <p:grpSpPr>
            <a:xfrm>
              <a:off x="6859440" y="4114080"/>
              <a:ext cx="668520" cy="610200"/>
              <a:chOff x="6859440" y="4114080"/>
              <a:chExt cx="668520" cy="610200"/>
            </a:xfrm>
          </p:grpSpPr>
          <p:sp>
            <p:nvSpPr>
              <p:cNvPr id="714" name="Oval 29"/>
              <p:cNvSpPr/>
              <p:nvPr/>
            </p:nvSpPr>
            <p:spPr>
              <a:xfrm>
                <a:off x="6864120" y="4114800"/>
                <a:ext cx="60984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5" name="Rectangle 30"/>
              <p:cNvSpPr/>
              <p:nvPr/>
            </p:nvSpPr>
            <p:spPr>
              <a:xfrm>
                <a:off x="6859440" y="41140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16" name="Rectangle 31"/>
            <p:cNvSpPr/>
            <p:nvPr/>
          </p:nvSpPr>
          <p:spPr>
            <a:xfrm>
              <a:off x="6325200" y="41907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7" name="Rectangle 32"/>
            <p:cNvSpPr/>
            <p:nvPr/>
          </p:nvSpPr>
          <p:spPr>
            <a:xfrm>
              <a:off x="7470000" y="396144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GA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18" name="Group 33"/>
          <p:cNvGrpSpPr/>
          <p:nvPr/>
        </p:nvGrpSpPr>
        <p:grpSpPr>
          <a:xfrm>
            <a:off x="6629400" y="5485320"/>
            <a:ext cx="1826640" cy="886320"/>
            <a:chOff x="6629400" y="5485320"/>
            <a:chExt cx="1826640" cy="886320"/>
          </a:xfrm>
        </p:grpSpPr>
        <p:sp>
          <p:nvSpPr>
            <p:cNvPr id="719" name="AutoShape 34"/>
            <p:cNvSpPr/>
            <p:nvPr/>
          </p:nvSpPr>
          <p:spPr>
            <a:xfrm>
              <a:off x="6629400" y="5715000"/>
              <a:ext cx="838080" cy="53352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0" name="Rectangle 35"/>
            <p:cNvSpPr/>
            <p:nvPr/>
          </p:nvSpPr>
          <p:spPr>
            <a:xfrm>
              <a:off x="7453800" y="594252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ADP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1" name="Rectangle 36"/>
            <p:cNvSpPr/>
            <p:nvPr/>
          </p:nvSpPr>
          <p:spPr>
            <a:xfrm>
              <a:off x="7453800" y="548532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ATP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22" name="Group 37"/>
          <p:cNvGrpSpPr/>
          <p:nvPr/>
        </p:nvGrpSpPr>
        <p:grpSpPr>
          <a:xfrm>
            <a:off x="4420440" y="5790960"/>
            <a:ext cx="1126440" cy="914760"/>
            <a:chOff x="4420440" y="5790960"/>
            <a:chExt cx="1126440" cy="914760"/>
          </a:xfrm>
        </p:grpSpPr>
        <p:grpSp>
          <p:nvGrpSpPr>
            <p:cNvPr id="723" name="Group 38"/>
            <p:cNvGrpSpPr/>
            <p:nvPr/>
          </p:nvGrpSpPr>
          <p:grpSpPr>
            <a:xfrm>
              <a:off x="4878360" y="6095160"/>
              <a:ext cx="668520" cy="610560"/>
              <a:chOff x="4878360" y="6095160"/>
              <a:chExt cx="668520" cy="610560"/>
            </a:xfrm>
          </p:grpSpPr>
          <p:sp>
            <p:nvSpPr>
              <p:cNvPr id="724" name="Oval 39"/>
              <p:cNvSpPr/>
              <p:nvPr/>
            </p:nvSpPr>
            <p:spPr>
              <a:xfrm>
                <a:off x="4883040" y="6095880"/>
                <a:ext cx="609120" cy="609840"/>
              </a:xfrm>
              <a:prstGeom prst="ellipse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25" name="Rectangle 40"/>
              <p:cNvSpPr/>
              <p:nvPr/>
            </p:nvSpPr>
            <p:spPr>
              <a:xfrm>
                <a:off x="4878360" y="60951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26" name="Rectangle 41"/>
            <p:cNvSpPr/>
            <p:nvPr/>
          </p:nvSpPr>
          <p:spPr>
            <a:xfrm>
              <a:off x="4420440" y="57909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27" name="Group 42"/>
          <p:cNvGrpSpPr/>
          <p:nvPr/>
        </p:nvGrpSpPr>
        <p:grpSpPr>
          <a:xfrm>
            <a:off x="1831320" y="4037760"/>
            <a:ext cx="1976400" cy="838800"/>
            <a:chOff x="1831320" y="4037760"/>
            <a:chExt cx="1976400" cy="838800"/>
          </a:xfrm>
        </p:grpSpPr>
        <p:grpSp>
          <p:nvGrpSpPr>
            <p:cNvPr id="728" name="Group 43"/>
            <p:cNvGrpSpPr/>
            <p:nvPr/>
          </p:nvGrpSpPr>
          <p:grpSpPr>
            <a:xfrm>
              <a:off x="2668320" y="4267080"/>
              <a:ext cx="668520" cy="609480"/>
              <a:chOff x="2668320" y="4267080"/>
              <a:chExt cx="668520" cy="609480"/>
            </a:xfrm>
          </p:grpSpPr>
          <p:sp>
            <p:nvSpPr>
              <p:cNvPr id="729" name="Oval 44"/>
              <p:cNvSpPr/>
              <p:nvPr/>
            </p:nvSpPr>
            <p:spPr>
              <a:xfrm>
                <a:off x="2697120" y="4267080"/>
                <a:ext cx="60948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0" name="Rectangle 45"/>
              <p:cNvSpPr/>
              <p:nvPr/>
            </p:nvSpPr>
            <p:spPr>
              <a:xfrm>
                <a:off x="2668320" y="42807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31" name="Rectangle 46"/>
            <p:cNvSpPr/>
            <p:nvPr/>
          </p:nvSpPr>
          <p:spPr>
            <a:xfrm>
              <a:off x="3258360" y="43113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2" name="Rectangle 47"/>
            <p:cNvSpPr/>
            <p:nvPr/>
          </p:nvSpPr>
          <p:spPr>
            <a:xfrm>
              <a:off x="1831320" y="4037760"/>
              <a:ext cx="95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33" name="Group 48"/>
          <p:cNvGrpSpPr/>
          <p:nvPr/>
        </p:nvGrpSpPr>
        <p:grpSpPr>
          <a:xfrm>
            <a:off x="1298880" y="5515560"/>
            <a:ext cx="2206080" cy="856080"/>
            <a:chOff x="1298880" y="5515560"/>
            <a:chExt cx="2206080" cy="856080"/>
          </a:xfrm>
        </p:grpSpPr>
        <p:sp>
          <p:nvSpPr>
            <p:cNvPr id="734" name="AutoShape 49"/>
            <p:cNvSpPr/>
            <p:nvPr/>
          </p:nvSpPr>
          <p:spPr>
            <a:xfrm flipH="1">
              <a:off x="2666160" y="5715000"/>
              <a:ext cx="838440" cy="53352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5" name="Rectangle 50"/>
            <p:cNvSpPr/>
            <p:nvPr/>
          </p:nvSpPr>
          <p:spPr>
            <a:xfrm>
              <a:off x="1499040" y="5942520"/>
              <a:ext cx="1203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NADP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6" name="Rectangle 51"/>
            <p:cNvSpPr/>
            <p:nvPr/>
          </p:nvSpPr>
          <p:spPr>
            <a:xfrm>
              <a:off x="1298880" y="5515560"/>
              <a:ext cx="1404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NADPH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37" name="Group 52"/>
          <p:cNvGrpSpPr/>
          <p:nvPr/>
        </p:nvGrpSpPr>
        <p:grpSpPr>
          <a:xfrm>
            <a:off x="1433880" y="2589840"/>
            <a:ext cx="1766520" cy="886320"/>
            <a:chOff x="1433880" y="2589840"/>
            <a:chExt cx="1766520" cy="886320"/>
          </a:xfrm>
        </p:grpSpPr>
        <p:sp>
          <p:nvSpPr>
            <p:cNvPr id="738" name="AutoShape 53"/>
            <p:cNvSpPr/>
            <p:nvPr/>
          </p:nvSpPr>
          <p:spPr>
            <a:xfrm flipH="1">
              <a:off x="2362320" y="2819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9" name="Rectangle 54"/>
            <p:cNvSpPr/>
            <p:nvPr/>
          </p:nvSpPr>
          <p:spPr>
            <a:xfrm>
              <a:off x="1433880" y="304704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3 ADP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0" name="Rectangle 55"/>
            <p:cNvSpPr/>
            <p:nvPr/>
          </p:nvSpPr>
          <p:spPr>
            <a:xfrm>
              <a:off x="1462680" y="258984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3 ATP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41" name="Rectangle 56"/>
          <p:cNvSpPr/>
          <p:nvPr/>
        </p:nvSpPr>
        <p:spPr>
          <a:xfrm>
            <a:off x="4800600" y="2286000"/>
            <a:ext cx="114300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2" name="Rectangle 57"/>
          <p:cNvSpPr/>
          <p:nvPr/>
        </p:nvSpPr>
        <p:spPr>
          <a:xfrm>
            <a:off x="4727520" y="2208960"/>
            <a:ext cx="12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bisc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3" name="Rectangle 58"/>
          <p:cNvSpPr/>
          <p:nvPr/>
        </p:nvSpPr>
        <p:spPr>
          <a:xfrm>
            <a:off x="6410520" y="1532160"/>
            <a:ext cx="2539800" cy="42912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1. Carbon fixa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4" name="Rectangle 59"/>
          <p:cNvSpPr/>
          <p:nvPr/>
        </p:nvSpPr>
        <p:spPr>
          <a:xfrm>
            <a:off x="281160" y="4961160"/>
            <a:ext cx="1857240" cy="42912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2. Reduc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5" name="Rectangle 60"/>
          <p:cNvSpPr/>
          <p:nvPr/>
        </p:nvSpPr>
        <p:spPr>
          <a:xfrm>
            <a:off x="451800" y="1669680"/>
            <a:ext cx="2354040" cy="76428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3. Regeneration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of RuBP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6" name="Rectangle 61"/>
          <p:cNvSpPr/>
          <p:nvPr/>
        </p:nvSpPr>
        <p:spPr>
          <a:xfrm>
            <a:off x="2789280" y="1406880"/>
            <a:ext cx="165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bulose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sphosphate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7" name="Rectangle 62"/>
          <p:cNvSpPr/>
          <p:nvPr/>
        </p:nvSpPr>
        <p:spPr>
          <a:xfrm>
            <a:off x="4055400" y="2795040"/>
            <a:ext cx="1966680" cy="11455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enzyme that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nds C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RuBP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8" name="Line 63"/>
          <p:cNvSpPr/>
          <p:nvPr/>
        </p:nvSpPr>
        <p:spPr>
          <a:xfrm flipH="1">
            <a:off x="228240" y="3962520"/>
            <a:ext cx="304920" cy="304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9" name="Line 64"/>
          <p:cNvSpPr/>
          <p:nvPr/>
        </p:nvSpPr>
        <p:spPr>
          <a:xfrm>
            <a:off x="646920" y="3899520"/>
            <a:ext cx="360" cy="43092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0" name="Line 65"/>
          <p:cNvSpPr/>
          <p:nvPr/>
        </p:nvSpPr>
        <p:spPr>
          <a:xfrm>
            <a:off x="762120" y="3962520"/>
            <a:ext cx="304560" cy="304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1" name="Rectangle 67"/>
          <p:cNvSpPr/>
          <p:nvPr/>
        </p:nvSpPr>
        <p:spPr>
          <a:xfrm>
            <a:off x="168120" y="4275360"/>
            <a:ext cx="1047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ucro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cellulo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752" name="Straight Arrow Connector 4"/>
          <p:cNvCxnSpPr/>
          <p:nvPr/>
        </p:nvCxnSpPr>
        <p:spPr>
          <a:xfrm flipV="1">
            <a:off x="5943240" y="1969560"/>
            <a:ext cx="656280" cy="88344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GAL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intermedi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 turns of Calvin Cycle = 1 gluco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GA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carbohydra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mino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nucleic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4430880" y="380880"/>
            <a:ext cx="4524120" cy="2971800"/>
          </a:xfrm>
          <a:prstGeom prst="rect">
            <a:avLst/>
          </a:prstGeom>
          <a:ln w="0">
            <a:noFill/>
          </a:ln>
        </p:spPr>
      </p:pic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f116a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s by produc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G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58" name="Group 9"/>
          <p:cNvGrpSpPr/>
          <p:nvPr/>
        </p:nvGrpSpPr>
        <p:grpSpPr>
          <a:xfrm>
            <a:off x="5446800" y="5105520"/>
            <a:ext cx="1487520" cy="1523880"/>
            <a:chOff x="5446800" y="5105520"/>
            <a:chExt cx="1487520" cy="1523880"/>
          </a:xfrm>
        </p:grpSpPr>
        <p:pic>
          <p:nvPicPr>
            <p:cNvPr id="759" name="Picture 10" descr=""/>
            <p:cNvPicPr/>
            <p:nvPr/>
          </p:nvPicPr>
          <p:blipFill>
            <a:blip r:embed="rId2"/>
            <a:stretch/>
          </p:blipFill>
          <p:spPr>
            <a:xfrm>
              <a:off x="5446800" y="5105520"/>
              <a:ext cx="1487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Oval 11"/>
            <p:cNvSpPr/>
            <p:nvPr/>
          </p:nvSpPr>
          <p:spPr>
            <a:xfrm>
              <a:off x="5580360" y="5600880"/>
              <a:ext cx="1218960" cy="533160"/>
            </a:xfrm>
            <a:prstGeom prst="ellipse">
              <a:avLst/>
            </a:prstGeom>
            <a:solidFill>
              <a:srgbClr val="b7c1e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1" name="Rectangle 12"/>
            <p:cNvSpPr/>
            <p:nvPr/>
          </p:nvSpPr>
          <p:spPr>
            <a:xfrm>
              <a:off x="5725800" y="560628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DP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62" name="Group 5"/>
          <p:cNvGrpSpPr/>
          <p:nvPr/>
        </p:nvGrpSpPr>
        <p:grpSpPr>
          <a:xfrm>
            <a:off x="7162920" y="5105520"/>
            <a:ext cx="1487520" cy="1523880"/>
            <a:chOff x="7162920" y="5105520"/>
            <a:chExt cx="1487520" cy="1523880"/>
          </a:xfrm>
        </p:grpSpPr>
        <p:pic>
          <p:nvPicPr>
            <p:cNvPr id="763" name="Picture 6" descr=""/>
            <p:cNvPicPr/>
            <p:nvPr/>
          </p:nvPicPr>
          <p:blipFill>
            <a:blip r:embed="rId3"/>
            <a:stretch/>
          </p:blipFill>
          <p:spPr>
            <a:xfrm>
              <a:off x="7162920" y="5105520"/>
              <a:ext cx="1487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Oval 7"/>
            <p:cNvSpPr/>
            <p:nvPr/>
          </p:nvSpPr>
          <p:spPr>
            <a:xfrm>
              <a:off x="7296480" y="5600880"/>
              <a:ext cx="1218960" cy="533160"/>
            </a:xfrm>
            <a:prstGeom prst="ellipse">
              <a:avLst/>
            </a:prstGeom>
            <a:solidFill>
              <a:srgbClr val="b7c1e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5" name="Rectangle 8"/>
            <p:cNvSpPr/>
            <p:nvPr/>
          </p:nvSpPr>
          <p:spPr>
            <a:xfrm>
              <a:off x="7314120" y="560628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DP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ctors that affect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4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zymes are responsible for several photosynthetic processes, therefore, 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temperatur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pH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an affect the rate of photosynthesis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e amount and type of 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light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n affect the rate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 shortage of any of the reactants,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CO</a:t>
            </a:r>
            <a:r>
              <a:rPr b="1" lang="en-US" sz="1700" spc="-1" strike="noStrike">
                <a:solidFill>
                  <a:srgbClr val="cb0c0e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nd/or 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H</a:t>
            </a:r>
            <a:r>
              <a:rPr b="1" lang="en-US" sz="1700" spc="-1" strike="noStrike">
                <a:solidFill>
                  <a:srgbClr val="cb0c0e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O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, can affect the rate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68" name="Picture 4" descr=""/>
          <p:cNvPicPr/>
          <p:nvPr/>
        </p:nvPicPr>
        <p:blipFill>
          <a:blip r:embed="rId1"/>
          <a:stretch/>
        </p:blipFill>
        <p:spPr>
          <a:xfrm>
            <a:off x="5214960" y="4613400"/>
            <a:ext cx="38005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are they connected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68" name="Group 3"/>
          <p:cNvGrpSpPr/>
          <p:nvPr/>
        </p:nvGrpSpPr>
        <p:grpSpPr>
          <a:xfrm>
            <a:off x="716040" y="2134440"/>
            <a:ext cx="7772400" cy="1677240"/>
            <a:chOff x="716040" y="2134440"/>
            <a:chExt cx="7772400" cy="1677240"/>
          </a:xfrm>
        </p:grpSpPr>
        <p:grpSp>
          <p:nvGrpSpPr>
            <p:cNvPr id="569" name="Group 4"/>
            <p:cNvGrpSpPr/>
            <p:nvPr/>
          </p:nvGrpSpPr>
          <p:grpSpPr>
            <a:xfrm>
              <a:off x="716040" y="2134440"/>
              <a:ext cx="7772400" cy="871200"/>
              <a:chOff x="716040" y="2134440"/>
              <a:chExt cx="7772400" cy="871200"/>
            </a:xfrm>
          </p:grpSpPr>
          <p:sp>
            <p:nvSpPr>
              <p:cNvPr id="570" name="Rectangle 5"/>
              <p:cNvSpPr/>
              <p:nvPr/>
            </p:nvSpPr>
            <p:spPr>
              <a:xfrm>
                <a:off x="716040" y="2135160"/>
                <a:ext cx="7772400" cy="762120"/>
              </a:xfrm>
              <a:prstGeom prst="rect">
                <a:avLst/>
              </a:prstGeom>
              <a:solidFill>
                <a:srgbClr val="ffe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571" name="Group 6"/>
              <p:cNvGrpSpPr/>
              <p:nvPr/>
            </p:nvGrpSpPr>
            <p:grpSpPr>
              <a:xfrm>
                <a:off x="868680" y="2134440"/>
                <a:ext cx="7272000" cy="871200"/>
                <a:chOff x="868680" y="2134440"/>
                <a:chExt cx="7272000" cy="871200"/>
              </a:xfrm>
            </p:grpSpPr>
            <p:sp>
              <p:nvSpPr>
                <p:cNvPr id="572" name="Rectangle 7"/>
                <p:cNvSpPr/>
                <p:nvPr/>
              </p:nvSpPr>
              <p:spPr>
                <a:xfrm>
                  <a:off x="868680" y="2134440"/>
                  <a:ext cx="72720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carbon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8"/>
                <p:cNvSpPr/>
                <p:nvPr/>
              </p:nvSpPr>
              <p:spPr>
                <a:xfrm>
                  <a:off x="4174920" y="2515680"/>
                  <a:ext cx="13406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Group 9"/>
            <p:cNvGrpSpPr/>
            <p:nvPr/>
          </p:nvGrpSpPr>
          <p:grpSpPr>
            <a:xfrm>
              <a:off x="716040" y="2897280"/>
              <a:ext cx="7772400" cy="914400"/>
              <a:chOff x="716040" y="2897280"/>
              <a:chExt cx="7772400" cy="914400"/>
            </a:xfrm>
          </p:grpSpPr>
          <p:sp>
            <p:nvSpPr>
              <p:cNvPr id="575" name="Rectangle 10"/>
              <p:cNvSpPr/>
              <p:nvPr/>
            </p:nvSpPr>
            <p:spPr>
              <a:xfrm>
                <a:off x="716040" y="289728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576" name="Group 11"/>
              <p:cNvGrpSpPr/>
              <p:nvPr/>
            </p:nvGrpSpPr>
            <p:grpSpPr>
              <a:xfrm>
                <a:off x="895680" y="3087360"/>
                <a:ext cx="7065360" cy="550800"/>
                <a:chOff x="895680" y="3087360"/>
                <a:chExt cx="7065360" cy="550800"/>
              </a:xfrm>
            </p:grpSpPr>
            <p:sp>
              <p:nvSpPr>
                <p:cNvPr id="577" name="Rectangle 12"/>
                <p:cNvSpPr/>
                <p:nvPr/>
              </p:nvSpPr>
              <p:spPr>
                <a:xfrm>
                  <a:off x="895680" y="3090240"/>
                  <a:ext cx="134352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78" name="Rectangle 13"/>
                <p:cNvSpPr/>
                <p:nvPr/>
              </p:nvSpPr>
              <p:spPr>
                <a:xfrm>
                  <a:off x="2796840" y="309024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79" name="Rectangle 14"/>
                <p:cNvSpPr/>
                <p:nvPr/>
              </p:nvSpPr>
              <p:spPr>
                <a:xfrm>
                  <a:off x="4402800" y="30902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0" name="Rectangle 15"/>
                <p:cNvSpPr/>
                <p:nvPr/>
              </p:nvSpPr>
              <p:spPr>
                <a:xfrm>
                  <a:off x="5736600" y="30902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16"/>
                <p:cNvSpPr/>
                <p:nvPr/>
              </p:nvSpPr>
              <p:spPr>
                <a:xfrm>
                  <a:off x="7117200" y="3117600"/>
                  <a:ext cx="8438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ATP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17"/>
                <p:cNvSpPr/>
                <p:nvPr/>
              </p:nvSpPr>
              <p:spPr>
                <a:xfrm>
                  <a:off x="3772080" y="308736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18"/>
                <p:cNvSpPr/>
                <p:nvPr/>
              </p:nvSpPr>
              <p:spPr>
                <a:xfrm>
                  <a:off x="224568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4" name="Rectangle 19"/>
                <p:cNvSpPr/>
                <p:nvPr/>
              </p:nvSpPr>
              <p:spPr>
                <a:xfrm>
                  <a:off x="536508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5" name="Rectangle 20"/>
                <p:cNvSpPr/>
                <p:nvPr/>
              </p:nvSpPr>
              <p:spPr>
                <a:xfrm>
                  <a:off x="663984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6" name="Rectangle 21"/>
          <p:cNvSpPr/>
          <p:nvPr/>
        </p:nvSpPr>
        <p:spPr>
          <a:xfrm>
            <a:off x="274680" y="1220040"/>
            <a:ext cx="630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eterotrophs and Autotroph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87" name="Group 22"/>
          <p:cNvGrpSpPr/>
          <p:nvPr/>
        </p:nvGrpSpPr>
        <p:grpSpPr>
          <a:xfrm>
            <a:off x="716040" y="4901400"/>
            <a:ext cx="7772400" cy="1677240"/>
            <a:chOff x="716040" y="4901400"/>
            <a:chExt cx="7772400" cy="1677240"/>
          </a:xfrm>
        </p:grpSpPr>
        <p:grpSp>
          <p:nvGrpSpPr>
            <p:cNvPr id="588" name="Group 23"/>
            <p:cNvGrpSpPr/>
            <p:nvPr/>
          </p:nvGrpSpPr>
          <p:grpSpPr>
            <a:xfrm>
              <a:off x="716040" y="4901400"/>
              <a:ext cx="7772400" cy="838800"/>
              <a:chOff x="716040" y="4901400"/>
              <a:chExt cx="7772400" cy="838800"/>
            </a:xfrm>
          </p:grpSpPr>
          <p:sp>
            <p:nvSpPr>
              <p:cNvPr id="589" name="Rectangle 24"/>
              <p:cNvSpPr/>
              <p:nvPr/>
            </p:nvSpPr>
            <p:spPr>
              <a:xfrm>
                <a:off x="716040" y="4902120"/>
                <a:ext cx="77724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590" name="Group 25"/>
              <p:cNvGrpSpPr/>
              <p:nvPr/>
            </p:nvGrpSpPr>
            <p:grpSpPr>
              <a:xfrm>
                <a:off x="792000" y="4901400"/>
                <a:ext cx="7361640" cy="838800"/>
                <a:chOff x="792000" y="4901400"/>
                <a:chExt cx="7361640" cy="838800"/>
              </a:xfrm>
            </p:grpSpPr>
            <p:sp>
              <p:nvSpPr>
                <p:cNvPr id="591" name="Rectangle 26"/>
                <p:cNvSpPr/>
                <p:nvPr/>
              </p:nvSpPr>
              <p:spPr>
                <a:xfrm>
                  <a:off x="2077920" y="4901400"/>
                  <a:ext cx="60757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2" name="Rectangle 27"/>
                <p:cNvSpPr/>
                <p:nvPr/>
              </p:nvSpPr>
              <p:spPr>
                <a:xfrm>
                  <a:off x="792000" y="4933440"/>
                  <a:ext cx="1340640" cy="80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carbon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Group 28"/>
            <p:cNvGrpSpPr/>
            <p:nvPr/>
          </p:nvGrpSpPr>
          <p:grpSpPr>
            <a:xfrm>
              <a:off x="716040" y="5664240"/>
              <a:ext cx="7772400" cy="914400"/>
              <a:chOff x="716040" y="5664240"/>
              <a:chExt cx="7772400" cy="914400"/>
            </a:xfrm>
          </p:grpSpPr>
          <p:sp>
            <p:nvSpPr>
              <p:cNvPr id="594" name="Rectangle 29"/>
              <p:cNvSpPr/>
              <p:nvPr/>
            </p:nvSpPr>
            <p:spPr>
              <a:xfrm>
                <a:off x="716040" y="566424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595" name="Group 30"/>
              <p:cNvGrpSpPr/>
              <p:nvPr/>
            </p:nvGrpSpPr>
            <p:grpSpPr>
              <a:xfrm>
                <a:off x="1034280" y="5848200"/>
                <a:ext cx="6743160" cy="727560"/>
                <a:chOff x="1034280" y="5848200"/>
                <a:chExt cx="6743160" cy="727560"/>
              </a:xfrm>
            </p:grpSpPr>
            <p:sp>
              <p:nvSpPr>
                <p:cNvPr id="596" name="Rectangle 31"/>
                <p:cNvSpPr/>
                <p:nvPr/>
              </p:nvSpPr>
              <p:spPr>
                <a:xfrm>
                  <a:off x="1034280" y="585720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7" name="Rectangle 32"/>
                <p:cNvSpPr/>
                <p:nvPr/>
              </p:nvSpPr>
              <p:spPr>
                <a:xfrm>
                  <a:off x="2426400" y="585720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8" name="Rectangle 33"/>
                <p:cNvSpPr/>
                <p:nvPr/>
              </p:nvSpPr>
              <p:spPr>
                <a:xfrm>
                  <a:off x="5317560" y="587448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9" name="Rectangle 34"/>
                <p:cNvSpPr/>
                <p:nvPr/>
              </p:nvSpPr>
              <p:spPr>
                <a:xfrm>
                  <a:off x="7048080" y="585720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35"/>
                <p:cNvSpPr/>
                <p:nvPr/>
              </p:nvSpPr>
              <p:spPr>
                <a:xfrm>
                  <a:off x="3535560" y="584820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1" name="Rectangle 36"/>
                <p:cNvSpPr/>
                <p:nvPr/>
              </p:nvSpPr>
              <p:spPr>
                <a:xfrm>
                  <a:off x="4789800" y="585396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2" name="Rectangle 37"/>
                <p:cNvSpPr/>
                <p:nvPr/>
              </p:nvSpPr>
              <p:spPr>
                <a:xfrm>
                  <a:off x="203904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3" name="Rectangle 38"/>
                <p:cNvSpPr/>
                <p:nvPr/>
              </p:nvSpPr>
              <p:spPr>
                <a:xfrm>
                  <a:off x="658404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4" name="Rectangle 39"/>
                <p:cNvSpPr/>
                <p:nvPr/>
              </p:nvSpPr>
              <p:spPr>
                <a:xfrm>
                  <a:off x="333468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5" name="Rectangle 40"/>
          <p:cNvSpPr/>
          <p:nvPr/>
        </p:nvSpPr>
        <p:spPr>
          <a:xfrm>
            <a:off x="716760" y="4063320"/>
            <a:ext cx="22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Autotroph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6" name="Rectangle 41"/>
          <p:cNvSpPr/>
          <p:nvPr/>
        </p:nvSpPr>
        <p:spPr>
          <a:xfrm>
            <a:off x="714240" y="444420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making energy &amp; organic molecules from light energy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716400" y="1677240"/>
            <a:ext cx="78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king energy &amp; organic molecules from ingesting organic molecule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08" name="Picture 43" descr="penguinL"/>
          <p:cNvPicPr/>
          <p:nvPr/>
        </p:nvPicPr>
        <p:blipFill>
          <a:blip r:embed="rId1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09" name="AutoShape 44"/>
          <p:cNvSpPr/>
          <p:nvPr/>
        </p:nvSpPr>
        <p:spPr>
          <a:xfrm>
            <a:off x="7702560" y="3933720"/>
            <a:ext cx="1441440" cy="1017720"/>
          </a:xfrm>
          <a:prstGeom prst="wedgeEllipseCallout">
            <a:avLst>
              <a:gd name="adj1" fmla="val -11453"/>
              <a:gd name="adj2" fmla="val 12051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ere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TP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0" name="Freeform 63"/>
          <p:cNvSpPr/>
          <p:nvPr/>
        </p:nvSpPr>
        <p:spPr>
          <a:xfrm>
            <a:off x="1492200" y="3508200"/>
            <a:ext cx="3413160" cy="468360"/>
          </a:xfrm>
          <a:custGeom>
            <a:avLst/>
            <a:gdLst/>
            <a:ahLst/>
            <a:rect l="l" t="t" r="r" b="b"/>
            <a:pathLst>
              <a:path w="2175" h="295">
                <a:moveTo>
                  <a:pt x="0" y="100"/>
                </a:moveTo>
                <a:lnTo>
                  <a:pt x="0" y="295"/>
                </a:lnTo>
                <a:lnTo>
                  <a:pt x="2175" y="295"/>
                </a:lnTo>
                <a:lnTo>
                  <a:pt x="2175" y="0"/>
                </a:lnTo>
              </a:path>
            </a:pathLst>
          </a:custGeom>
          <a:noFill/>
          <a:ln w="57240">
            <a:solidFill>
              <a:srgbClr val="66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1" name="Freeform 64"/>
          <p:cNvSpPr/>
          <p:nvPr/>
        </p:nvSpPr>
        <p:spPr>
          <a:xfrm>
            <a:off x="1531800" y="6222960"/>
            <a:ext cx="4310280" cy="420840"/>
          </a:xfrm>
          <a:custGeom>
            <a:avLst/>
            <a:gdLst/>
            <a:ahLst/>
            <a:rect l="l" t="t" r="r" b="b"/>
            <a:pathLst>
              <a:path w="2175" h="295">
                <a:moveTo>
                  <a:pt x="0" y="100"/>
                </a:moveTo>
                <a:lnTo>
                  <a:pt x="0" y="295"/>
                </a:lnTo>
                <a:lnTo>
                  <a:pt x="2175" y="295"/>
                </a:lnTo>
                <a:lnTo>
                  <a:pt x="2175" y="0"/>
                </a:lnTo>
              </a:path>
            </a:pathLst>
          </a:custGeom>
          <a:noFill/>
          <a:ln w="5724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2" name="Rectangle 65"/>
          <p:cNvSpPr/>
          <p:nvPr/>
        </p:nvSpPr>
        <p:spPr>
          <a:xfrm>
            <a:off x="2626560" y="3794040"/>
            <a:ext cx="1239840" cy="314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9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goni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3" name="Rectangle 66"/>
          <p:cNvSpPr/>
          <p:nvPr/>
        </p:nvSpPr>
        <p:spPr>
          <a:xfrm>
            <a:off x="2996280" y="6540480"/>
            <a:ext cx="1409040" cy="314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9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ergoni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pporting a biosphe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n global scale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tosynthesis i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important proces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the continuation of life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year photosynthesis synthesiz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60 billion tons of carbohydr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terotrophs are dependent on plants as food source for fuel &amp; raw materia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771" name="Picture 4" descr=""/>
          <p:cNvPicPr/>
          <p:nvPr/>
        </p:nvPicPr>
        <p:blipFill>
          <a:blip r:embed="rId1"/>
          <a:srcRect l="11702" t="0" r="9000" b="0"/>
          <a:stretch/>
        </p:blipFill>
        <p:spPr>
          <a:xfrm>
            <a:off x="6400800" y="380880"/>
            <a:ext cx="2666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3030120" y="2193120"/>
            <a:ext cx="3018240" cy="550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648880" y="4876200"/>
            <a:ext cx="37774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75" name="Group 5"/>
          <p:cNvGrpSpPr/>
          <p:nvPr/>
        </p:nvGrpSpPr>
        <p:grpSpPr>
          <a:xfrm>
            <a:off x="617400" y="3537720"/>
            <a:ext cx="7837560" cy="544680"/>
            <a:chOff x="617400" y="3537720"/>
            <a:chExt cx="7837560" cy="544680"/>
          </a:xfrm>
        </p:grpSpPr>
        <p:sp>
          <p:nvSpPr>
            <p:cNvPr id="776" name="Rectangle 6"/>
            <p:cNvSpPr/>
            <p:nvPr/>
          </p:nvSpPr>
          <p:spPr>
            <a:xfrm>
              <a:off x="5790600" y="3565080"/>
              <a:ext cx="1433520" cy="48996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7" name="Rectangle 7"/>
            <p:cNvSpPr/>
            <p:nvPr/>
          </p:nvSpPr>
          <p:spPr>
            <a:xfrm>
              <a:off x="7910280" y="3537720"/>
              <a:ext cx="5446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8" name="Rectangle 8"/>
            <p:cNvSpPr/>
            <p:nvPr/>
          </p:nvSpPr>
          <p:spPr>
            <a:xfrm>
              <a:off x="1946160" y="3537720"/>
              <a:ext cx="7840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9" name="Rectangle 9"/>
            <p:cNvSpPr/>
            <p:nvPr/>
          </p:nvSpPr>
          <p:spPr>
            <a:xfrm>
              <a:off x="617400" y="3537720"/>
              <a:ext cx="7840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80" name="Group 10"/>
          <p:cNvGrpSpPr/>
          <p:nvPr/>
        </p:nvGrpSpPr>
        <p:grpSpPr>
          <a:xfrm>
            <a:off x="4876920" y="5715000"/>
            <a:ext cx="1752480" cy="990720"/>
            <a:chOff x="4876920" y="5715000"/>
            <a:chExt cx="1752480" cy="990720"/>
          </a:xfrm>
        </p:grpSpPr>
        <p:sp>
          <p:nvSpPr>
            <p:cNvPr id="781" name="AutoShape 11"/>
            <p:cNvSpPr/>
            <p:nvPr/>
          </p:nvSpPr>
          <p:spPr>
            <a:xfrm>
              <a:off x="4876920" y="5715000"/>
              <a:ext cx="1752480" cy="990720"/>
            </a:xfrm>
            <a:prstGeom prst="sun">
              <a:avLst>
                <a:gd name="adj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82" name="Rectangle 12"/>
            <p:cNvSpPr/>
            <p:nvPr/>
          </p:nvSpPr>
          <p:spPr>
            <a:xfrm>
              <a:off x="5331240" y="59655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83" name="Group 13"/>
          <p:cNvGrpSpPr/>
          <p:nvPr/>
        </p:nvGrpSpPr>
        <p:grpSpPr>
          <a:xfrm>
            <a:off x="5715000" y="762120"/>
            <a:ext cx="1752480" cy="990360"/>
            <a:chOff x="5715000" y="762120"/>
            <a:chExt cx="1752480" cy="990360"/>
          </a:xfrm>
        </p:grpSpPr>
        <p:sp>
          <p:nvSpPr>
            <p:cNvPr id="784" name="AutoShape 14"/>
            <p:cNvSpPr/>
            <p:nvPr/>
          </p:nvSpPr>
          <p:spPr>
            <a:xfrm>
              <a:off x="5715000" y="762120"/>
              <a:ext cx="1752480" cy="990360"/>
            </a:xfrm>
            <a:prstGeom prst="sun">
              <a:avLst>
                <a:gd name="adj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6205680" y="990360"/>
              <a:ext cx="77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sun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86" name="AutoShape 16"/>
          <p:cNvSpPr/>
          <p:nvPr/>
        </p:nvSpPr>
        <p:spPr>
          <a:xfrm flipH="1">
            <a:off x="5105520" y="1371600"/>
            <a:ext cx="1295280" cy="83808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7735" y="10800"/>
                </a:moveTo>
                <a:cubicBezTo>
                  <a:pt x="17735" y="6969"/>
                  <a:pt x="14630" y="3865"/>
                  <a:pt x="10800" y="3865"/>
                </a:cubicBezTo>
                <a:cubicBezTo>
                  <a:pt x="10618" y="3864"/>
                  <a:pt x="10437" y="3872"/>
                  <a:pt x="10256" y="3886"/>
                </a:cubicBezTo>
                <a:lnTo>
                  <a:pt x="9954" y="33"/>
                </a:lnTo>
                <a:cubicBezTo>
                  <a:pt x="10235" y="11"/>
                  <a:pt x="10517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lnTo>
                  <a:pt x="177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7" name="AutoShape 17"/>
          <p:cNvSpPr/>
          <p:nvPr/>
        </p:nvSpPr>
        <p:spPr>
          <a:xfrm>
            <a:off x="3733920" y="5486400"/>
            <a:ext cx="1295280" cy="83808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7735" y="10800"/>
                </a:moveTo>
                <a:cubicBezTo>
                  <a:pt x="17735" y="6969"/>
                  <a:pt x="14630" y="3865"/>
                  <a:pt x="10800" y="3865"/>
                </a:cubicBezTo>
                <a:cubicBezTo>
                  <a:pt x="10618" y="3864"/>
                  <a:pt x="10437" y="3872"/>
                  <a:pt x="10256" y="3886"/>
                </a:cubicBezTo>
                <a:lnTo>
                  <a:pt x="9954" y="33"/>
                </a:lnTo>
                <a:cubicBezTo>
                  <a:pt x="10235" y="11"/>
                  <a:pt x="10517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lnTo>
                  <a:pt x="177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8" name="AutoShape 18"/>
          <p:cNvSpPr/>
          <p:nvPr/>
        </p:nvSpPr>
        <p:spPr>
          <a:xfrm flipH="1" flipV="1" rot="5400000">
            <a:off x="1675080" y="2513880"/>
            <a:ext cx="1295640" cy="1600200"/>
          </a:xfrm>
          <a:custGeom>
            <a:avLst/>
            <a:gdLst>
              <a:gd name="textAreaLeft" fmla="*/ 189720 w 1295640"/>
              <a:gd name="textAreaRight" fmla="*/ 1105920 w 1295640"/>
              <a:gd name="textAreaTop" fmla="*/ 234360 h 1600200"/>
              <a:gd name="textAreaBottom" fmla="*/ 1365840 h 1600200"/>
            </a:gdLst>
            <a:ahLst/>
            <a:rect l="textAreaLeft" t="textAreaTop" r="textAreaRight" b="textAreaBottom"/>
            <a:pathLst>
              <a:path w="21600" h="21600">
                <a:moveTo>
                  <a:pt x="19057" y="10798"/>
                </a:moveTo>
                <a:cubicBezTo>
                  <a:pt x="19057" y="6254"/>
                  <a:pt x="15384" y="2563"/>
                  <a:pt x="10839" y="2542"/>
                </a:cubicBezTo>
                <a:lnTo>
                  <a:pt x="10851" y="0"/>
                </a:lnTo>
                <a:cubicBezTo>
                  <a:pt x="16795" y="28"/>
                  <a:pt x="21599" y="4854"/>
                  <a:pt x="21599" y="10798"/>
                </a:cubicBezTo>
                <a:lnTo>
                  <a:pt x="24299" y="10798"/>
                </a:lnTo>
                <a:lnTo>
                  <a:pt x="20329" y="14769"/>
                </a:lnTo>
                <a:lnTo>
                  <a:pt x="16357" y="10799"/>
                </a:lnTo>
                <a:lnTo>
                  <a:pt x="19057" y="10798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9" name="AutoShape 19"/>
          <p:cNvSpPr/>
          <p:nvPr/>
        </p:nvSpPr>
        <p:spPr>
          <a:xfrm flipH="1" flipV="1" rot="10800000">
            <a:off x="6323400" y="2513520"/>
            <a:ext cx="1295640" cy="1600200"/>
          </a:xfrm>
          <a:custGeom>
            <a:avLst/>
            <a:gdLst>
              <a:gd name="textAreaLeft" fmla="*/ 189720 w 1295640"/>
              <a:gd name="textAreaRight" fmla="*/ 1105920 w 1295640"/>
              <a:gd name="textAreaTop" fmla="*/ 234360 h 1600200"/>
              <a:gd name="textAreaBottom" fmla="*/ 1365840 h 1600200"/>
            </a:gdLst>
            <a:ahLst/>
            <a:rect l="textAreaLeft" t="textAreaTop" r="textAreaRight" b="textAreaBottom"/>
            <a:pathLst>
              <a:path w="21600" h="21600">
                <a:moveTo>
                  <a:pt x="19057" y="10798"/>
                </a:moveTo>
                <a:cubicBezTo>
                  <a:pt x="19057" y="6254"/>
                  <a:pt x="15384" y="2563"/>
                  <a:pt x="10839" y="2542"/>
                </a:cubicBezTo>
                <a:lnTo>
                  <a:pt x="10851" y="0"/>
                </a:lnTo>
                <a:cubicBezTo>
                  <a:pt x="16795" y="28"/>
                  <a:pt x="21599" y="4854"/>
                  <a:pt x="21599" y="10798"/>
                </a:cubicBezTo>
                <a:lnTo>
                  <a:pt x="24299" y="10798"/>
                </a:lnTo>
                <a:lnTo>
                  <a:pt x="20329" y="14769"/>
                </a:lnTo>
                <a:lnTo>
                  <a:pt x="16357" y="10799"/>
                </a:lnTo>
                <a:lnTo>
                  <a:pt x="19057" y="10798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0" name="AutoShape 20"/>
          <p:cNvSpPr/>
          <p:nvPr/>
        </p:nvSpPr>
        <p:spPr>
          <a:xfrm flipH="1" flipV="1" rot="16200000">
            <a:off x="6171480" y="3733560"/>
            <a:ext cx="1295280" cy="160020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234360 h 1600200"/>
              <a:gd name="textAreaBottom" fmla="*/ 1365840 h 1600200"/>
            </a:gdLst>
            <a:ahLst/>
            <a:rect l="textAreaLeft" t="textAreaTop" r="textAreaRight" b="textAreaBottom"/>
            <a:pathLst>
              <a:path w="21600" h="21600">
                <a:moveTo>
                  <a:pt x="19057" y="10798"/>
                </a:moveTo>
                <a:cubicBezTo>
                  <a:pt x="19057" y="6254"/>
                  <a:pt x="15384" y="2563"/>
                  <a:pt x="10839" y="2542"/>
                </a:cubicBezTo>
                <a:lnTo>
                  <a:pt x="10851" y="0"/>
                </a:lnTo>
                <a:cubicBezTo>
                  <a:pt x="16795" y="28"/>
                  <a:pt x="21599" y="4854"/>
                  <a:pt x="21599" y="10798"/>
                </a:cubicBezTo>
                <a:lnTo>
                  <a:pt x="24299" y="10798"/>
                </a:lnTo>
                <a:lnTo>
                  <a:pt x="20329" y="14769"/>
                </a:lnTo>
                <a:lnTo>
                  <a:pt x="16357" y="10799"/>
                </a:lnTo>
                <a:lnTo>
                  <a:pt x="19057" y="10798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1" name="AutoShape 21"/>
          <p:cNvSpPr/>
          <p:nvPr/>
        </p:nvSpPr>
        <p:spPr>
          <a:xfrm flipH="1" flipV="1">
            <a:off x="1523160" y="3656880"/>
            <a:ext cx="1295640" cy="1600200"/>
          </a:xfrm>
          <a:custGeom>
            <a:avLst/>
            <a:gdLst>
              <a:gd name="textAreaLeft" fmla="*/ 189720 w 1295640"/>
              <a:gd name="textAreaRight" fmla="*/ 1105920 w 1295640"/>
              <a:gd name="textAreaTop" fmla="*/ 234360 h 1600200"/>
              <a:gd name="textAreaBottom" fmla="*/ 1365840 h 1600200"/>
            </a:gdLst>
            <a:ahLst/>
            <a:rect l="textAreaLeft" t="textAreaTop" r="textAreaRight" b="textAreaBottom"/>
            <a:pathLst>
              <a:path w="21600" h="21600">
                <a:moveTo>
                  <a:pt x="19057" y="10798"/>
                </a:moveTo>
                <a:cubicBezTo>
                  <a:pt x="19057" y="6254"/>
                  <a:pt x="15384" y="2563"/>
                  <a:pt x="10839" y="2542"/>
                </a:cubicBezTo>
                <a:lnTo>
                  <a:pt x="10851" y="0"/>
                </a:lnTo>
                <a:cubicBezTo>
                  <a:pt x="16795" y="28"/>
                  <a:pt x="21599" y="4854"/>
                  <a:pt x="21599" y="10798"/>
                </a:cubicBezTo>
                <a:lnTo>
                  <a:pt x="24299" y="10798"/>
                </a:lnTo>
                <a:lnTo>
                  <a:pt x="20329" y="14769"/>
                </a:lnTo>
                <a:lnTo>
                  <a:pt x="16357" y="10799"/>
                </a:lnTo>
                <a:lnTo>
                  <a:pt x="19057" y="10798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92" name="Group 25"/>
          <p:cNvGrpSpPr/>
          <p:nvPr/>
        </p:nvGrpSpPr>
        <p:grpSpPr>
          <a:xfrm>
            <a:off x="-360" y="5562720"/>
            <a:ext cx="3657600" cy="1295280"/>
            <a:chOff x="-360" y="5562720"/>
            <a:chExt cx="3657600" cy="1295280"/>
          </a:xfrm>
        </p:grpSpPr>
        <p:pic>
          <p:nvPicPr>
            <p:cNvPr id="793" name="Picture 23" descr="penguinL"/>
            <p:cNvPicPr/>
            <p:nvPr/>
          </p:nvPicPr>
          <p:blipFill>
            <a:blip r:embed="rId1"/>
            <a:stretch/>
          </p:blipFill>
          <p:spPr>
            <a:xfrm flipH="1">
              <a:off x="-360" y="55627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AutoShape 24"/>
            <p:cNvSpPr/>
            <p:nvPr/>
          </p:nvSpPr>
          <p:spPr>
            <a:xfrm flipH="1">
              <a:off x="1218600" y="5689440"/>
              <a:ext cx="2438280" cy="1067040"/>
            </a:xfrm>
            <a:prstGeom prst="wedgeEllipseCallout">
              <a:avLst>
                <a:gd name="adj1" fmla="val 62041"/>
                <a:gd name="adj2" fmla="val -25300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2880" bIns="18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he Great Circle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of Life!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Where</a:t>
              </a:r>
              <a:r>
                <a:rPr b="1" lang="en-US" sz="1600" spc="-1" strike="noStrike">
                  <a:solidFill>
                    <a:srgbClr val="0f116a"/>
                  </a:solidFill>
                  <a:latin typeface="Arial"/>
                  <a:ea typeface="ＭＳ Ｐゴシック"/>
                </a:rPr>
                <a:t>’</a:t>
              </a: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s Mufasa?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energy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’s the energy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will the C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will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else is involved that is not listed in this equation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798" name="Group 4"/>
          <p:cNvGrpSpPr/>
          <p:nvPr/>
        </p:nvGrpSpPr>
        <p:grpSpPr>
          <a:xfrm>
            <a:off x="838080" y="1295280"/>
            <a:ext cx="7772400" cy="914400"/>
            <a:chOff x="838080" y="1295280"/>
            <a:chExt cx="7772400" cy="914400"/>
          </a:xfrm>
        </p:grpSpPr>
        <p:sp>
          <p:nvSpPr>
            <p:cNvPr id="799" name="Rectangle 5"/>
            <p:cNvSpPr/>
            <p:nvPr/>
          </p:nvSpPr>
          <p:spPr>
            <a:xfrm>
              <a:off x="838080" y="12952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800" name="Group 6"/>
            <p:cNvGrpSpPr/>
            <p:nvPr/>
          </p:nvGrpSpPr>
          <p:grpSpPr>
            <a:xfrm>
              <a:off x="1156320" y="1479240"/>
              <a:ext cx="6743160" cy="727560"/>
              <a:chOff x="1156320" y="1479240"/>
              <a:chExt cx="6743160" cy="727560"/>
            </a:xfrm>
          </p:grpSpPr>
          <p:sp>
            <p:nvSpPr>
              <p:cNvPr id="801" name="Rectangle 7"/>
              <p:cNvSpPr/>
              <p:nvPr/>
            </p:nvSpPr>
            <p:spPr>
              <a:xfrm>
                <a:off x="115632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2" name="Rectangle 8"/>
              <p:cNvSpPr/>
              <p:nvPr/>
            </p:nvSpPr>
            <p:spPr>
              <a:xfrm>
                <a:off x="254844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3" name="Rectangle 9"/>
              <p:cNvSpPr/>
              <p:nvPr/>
            </p:nvSpPr>
            <p:spPr>
              <a:xfrm>
                <a:off x="5439600" y="15055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4" name="Rectangle 10"/>
              <p:cNvSpPr/>
              <p:nvPr/>
            </p:nvSpPr>
            <p:spPr>
              <a:xfrm>
                <a:off x="7170120" y="14882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5" name="Rectangle 11"/>
              <p:cNvSpPr/>
              <p:nvPr/>
            </p:nvSpPr>
            <p:spPr>
              <a:xfrm>
                <a:off x="3657600" y="14792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6" name="Rectangle 12"/>
              <p:cNvSpPr/>
              <p:nvPr/>
            </p:nvSpPr>
            <p:spPr>
              <a:xfrm>
                <a:off x="4911840" y="14850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7" name="Rectangle 13"/>
              <p:cNvSpPr/>
              <p:nvPr/>
            </p:nvSpPr>
            <p:spPr>
              <a:xfrm>
                <a:off x="2161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8" name="Rectangle 14"/>
              <p:cNvSpPr/>
              <p:nvPr/>
            </p:nvSpPr>
            <p:spPr>
              <a:xfrm>
                <a:off x="6706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9" name="Rectangle 15"/>
              <p:cNvSpPr/>
              <p:nvPr/>
            </p:nvSpPr>
            <p:spPr>
              <a:xfrm>
                <a:off x="345672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rcRect l="0" t="0" r="2000" b="3872"/>
          <a:stretch/>
        </p:blipFill>
        <p:spPr>
          <a:xfrm>
            <a:off x="4951440" y="457200"/>
            <a:ext cx="4192560" cy="63738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btaining raw material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nligh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4a402"/>
                </a:solidFill>
                <a:uFillTx/>
                <a:latin typeface="Arial"/>
              </a:rPr>
              <a:t>leaves</a:t>
            </a:r>
            <a:r>
              <a:rPr b="1" lang="en-US" sz="2400" spc="-1" strike="noStrike">
                <a:solidFill>
                  <a:srgbClr val="04a40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solar collecto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omat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gas exchang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und under leav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tri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, P, K, S, Mg, Fe…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rcRect l="10602" t="36365" r="2056" b="4082"/>
          <a:stretch/>
        </p:blipFill>
        <p:spPr>
          <a:xfrm>
            <a:off x="4040280" y="457200"/>
            <a:ext cx="5103720" cy="495936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loroplas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uble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rom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thylakoid sac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Arial"/>
              </a:rPr>
              <a:t>grana stack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lorophyll &amp; ETC in </a:t>
            </a:r>
            <a:r>
              <a:rPr b="1" i="1" lang="en-US" sz="3000" spc="-1" strike="noStrike">
                <a:solidFill>
                  <a:srgbClr val="c00000"/>
                </a:solidFill>
                <a:latin typeface="Arial"/>
              </a:rPr>
              <a:t>thylakoid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 built up within thylakoid sa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21" name="Group 17"/>
          <p:cNvGrpSpPr/>
          <p:nvPr/>
        </p:nvGrpSpPr>
        <p:grpSpPr>
          <a:xfrm>
            <a:off x="5715000" y="5698080"/>
            <a:ext cx="2666880" cy="780120"/>
            <a:chOff x="5715000" y="5698080"/>
            <a:chExt cx="2666880" cy="780120"/>
          </a:xfrm>
        </p:grpSpPr>
        <p:sp>
          <p:nvSpPr>
            <p:cNvPr id="622" name="Oval 5"/>
            <p:cNvSpPr/>
            <p:nvPr/>
          </p:nvSpPr>
          <p:spPr>
            <a:xfrm>
              <a:off x="5715000" y="5715000"/>
              <a:ext cx="2666880" cy="762120"/>
            </a:xfrm>
            <a:prstGeom prst="ellipse">
              <a:avLst/>
            </a:prstGeom>
            <a:solidFill>
              <a:srgbClr val="80ff00"/>
            </a:solidFill>
            <a:ln w="38160">
              <a:solidFill>
                <a:srgbClr val="04a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3" name="Rectangle 6"/>
            <p:cNvSpPr/>
            <p:nvPr/>
          </p:nvSpPr>
          <p:spPr>
            <a:xfrm>
              <a:off x="6176520" y="58647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4" name="Rectangle 7"/>
            <p:cNvSpPr/>
            <p:nvPr/>
          </p:nvSpPr>
          <p:spPr>
            <a:xfrm>
              <a:off x="6482880" y="579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5" name="Rectangle 8"/>
            <p:cNvSpPr/>
            <p:nvPr/>
          </p:nvSpPr>
          <p:spPr>
            <a:xfrm>
              <a:off x="6635160" y="60188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6" name="Rectangle 9"/>
            <p:cNvSpPr/>
            <p:nvPr/>
          </p:nvSpPr>
          <p:spPr>
            <a:xfrm>
              <a:off x="6787440" y="57139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7" name="Rectangle 10"/>
            <p:cNvSpPr/>
            <p:nvPr/>
          </p:nvSpPr>
          <p:spPr>
            <a:xfrm>
              <a:off x="701604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8" name="Rectangle 11"/>
            <p:cNvSpPr/>
            <p:nvPr/>
          </p:nvSpPr>
          <p:spPr>
            <a:xfrm>
              <a:off x="7244640" y="569808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9" name="Rectangle 12"/>
            <p:cNvSpPr/>
            <p:nvPr/>
          </p:nvSpPr>
          <p:spPr>
            <a:xfrm>
              <a:off x="732096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0" name="Rectangle 13"/>
            <p:cNvSpPr/>
            <p:nvPr/>
          </p:nvSpPr>
          <p:spPr>
            <a:xfrm>
              <a:off x="7625880" y="579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1" name="Rectangle 14"/>
            <p:cNvSpPr/>
            <p:nvPr/>
          </p:nvSpPr>
          <p:spPr>
            <a:xfrm>
              <a:off x="770184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2" name="Rectangle 15"/>
            <p:cNvSpPr/>
            <p:nvPr/>
          </p:nvSpPr>
          <p:spPr>
            <a:xfrm>
              <a:off x="5797080" y="58665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3" name="Rectangle 16"/>
            <p:cNvSpPr/>
            <p:nvPr/>
          </p:nvSpPr>
          <p:spPr>
            <a:xfrm>
              <a:off x="6324120" y="60793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rcRect l="0" t="0" r="0" b="3257"/>
          <a:stretch/>
        </p:blipFill>
        <p:spPr>
          <a:xfrm>
            <a:off x="762120" y="1368360"/>
            <a:ext cx="8153280" cy="53373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igments of photosynthe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4343400"/>
            <a:ext cx="44960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hlorophyll &amp; accessory pigment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tosystem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mbedded in thylakoid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tructure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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fun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7238880" y="358020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hy does this structure make sense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: absorption spectr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otosynthesis gets energy by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bsorbing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wavelengths of 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hlorophyll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dominant pigment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bsorbs best in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blue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s &amp; least in 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ther pigments with different structures absorb light of different wavelength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rcRect l="0" t="0" r="0" b="66003"/>
          <a:stretch/>
        </p:blipFill>
        <p:spPr>
          <a:xfrm>
            <a:off x="4419720" y="3911760"/>
            <a:ext cx="4724280" cy="28112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"/>
          <p:cNvPicPr/>
          <p:nvPr/>
        </p:nvPicPr>
        <p:blipFill>
          <a:blip r:embed="rId2"/>
          <a:srcRect l="0" t="3332" r="0" b="4466"/>
          <a:stretch/>
        </p:blipFill>
        <p:spPr>
          <a:xfrm>
            <a:off x="1494000" y="4021200"/>
            <a:ext cx="2909880" cy="27097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44" name="AutoShape 10"/>
          <p:cNvSpPr/>
          <p:nvPr/>
        </p:nvSpPr>
        <p:spPr>
          <a:xfrm flipH="1">
            <a:off x="-720" y="3911760"/>
            <a:ext cx="1893960" cy="971280"/>
          </a:xfrm>
          <a:prstGeom prst="wedgeEllipseCallout">
            <a:avLst>
              <a:gd name="adj1" fmla="val -5995"/>
              <a:gd name="adj2" fmla="val 13708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y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lants green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5" descr="masked penguin"/>
          <p:cNvPicPr/>
          <p:nvPr/>
        </p:nvPicPr>
        <p:blipFill>
          <a:blip r:embed="rId1"/>
          <a:stretch/>
        </p:blipFill>
        <p:spPr>
          <a:xfrm flipH="1">
            <a:off x="7213320" y="4792680"/>
            <a:ext cx="1941480" cy="20397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12"/>
          <p:cNvSpPr/>
          <p:nvPr/>
        </p:nvSpPr>
        <p:spPr>
          <a:xfrm>
            <a:off x="404640" y="1325520"/>
            <a:ext cx="1413000" cy="23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158760" y="6326280"/>
            <a:ext cx="14130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48" name="Picture 2" descr=""/>
          <p:cNvPicPr/>
          <p:nvPr/>
        </p:nvPicPr>
        <p:blipFill>
          <a:blip r:embed="rId2"/>
          <a:srcRect l="0" t="0" r="0" b="3446"/>
          <a:stretch/>
        </p:blipFill>
        <p:spPr>
          <a:xfrm>
            <a:off x="4424400" y="179280"/>
            <a:ext cx="4719600" cy="3098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-360" y="1668600"/>
            <a:ext cx="72802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ght-dependent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production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vert solar energy to chemical energ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P &amp; NADP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alvin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ght-independent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gar production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ses chemical energy (ATP &amp; NADPH) to reduc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&amp; synthesize C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1" name="AutoShape 14"/>
          <p:cNvSpPr/>
          <p:nvPr/>
        </p:nvSpPr>
        <p:spPr>
          <a:xfrm>
            <a:off x="5330880" y="3879720"/>
            <a:ext cx="2565360" cy="1017720"/>
          </a:xfrm>
          <a:prstGeom prst="wedgeEllipseCallout">
            <a:avLst>
              <a:gd name="adj1" fmla="val 35087"/>
              <a:gd name="adj2" fmla="val 8541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t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s the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ark Reactions</a:t>
            </a:r>
            <a:r>
              <a:rPr b="1" i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2" name="Freeform 22"/>
          <p:cNvSpPr/>
          <p:nvPr/>
        </p:nvSpPr>
        <p:spPr>
          <a:xfrm>
            <a:off x="5529240" y="4354560"/>
            <a:ext cx="2314440" cy="450720"/>
          </a:xfrm>
          <a:custGeom>
            <a:avLst/>
            <a:gdLst/>
            <a:ahLst/>
            <a:rect l="l" t="t" r="r" b="b"/>
            <a:pathLst>
              <a:path w="1525" h="384">
                <a:moveTo>
                  <a:pt x="0" y="245"/>
                </a:moveTo>
                <a:cubicBezTo>
                  <a:pt x="83" y="157"/>
                  <a:pt x="167" y="69"/>
                  <a:pt x="175" y="79"/>
                </a:cubicBezTo>
                <a:cubicBezTo>
                  <a:pt x="183" y="89"/>
                  <a:pt x="38" y="304"/>
                  <a:pt x="50" y="304"/>
                </a:cubicBezTo>
                <a:cubicBezTo>
                  <a:pt x="62" y="304"/>
                  <a:pt x="227" y="79"/>
                  <a:pt x="250" y="79"/>
                </a:cubicBezTo>
                <a:cubicBezTo>
                  <a:pt x="273" y="79"/>
                  <a:pt x="163" y="306"/>
                  <a:pt x="191" y="304"/>
                </a:cubicBezTo>
                <a:cubicBezTo>
                  <a:pt x="219" y="302"/>
                  <a:pt x="385" y="72"/>
                  <a:pt x="416" y="70"/>
                </a:cubicBezTo>
                <a:cubicBezTo>
                  <a:pt x="447" y="68"/>
                  <a:pt x="344" y="295"/>
                  <a:pt x="375" y="295"/>
                </a:cubicBezTo>
                <a:cubicBezTo>
                  <a:pt x="406" y="295"/>
                  <a:pt x="575" y="60"/>
                  <a:pt x="600" y="70"/>
                </a:cubicBezTo>
                <a:cubicBezTo>
                  <a:pt x="625" y="80"/>
                  <a:pt x="495" y="354"/>
                  <a:pt x="525" y="354"/>
                </a:cubicBezTo>
                <a:cubicBezTo>
                  <a:pt x="555" y="354"/>
                  <a:pt x="746" y="76"/>
                  <a:pt x="783" y="70"/>
                </a:cubicBezTo>
                <a:cubicBezTo>
                  <a:pt x="820" y="64"/>
                  <a:pt x="718" y="323"/>
                  <a:pt x="750" y="320"/>
                </a:cubicBezTo>
                <a:cubicBezTo>
                  <a:pt x="782" y="317"/>
                  <a:pt x="952" y="48"/>
                  <a:pt x="975" y="54"/>
                </a:cubicBezTo>
                <a:cubicBezTo>
                  <a:pt x="998" y="60"/>
                  <a:pt x="863" y="362"/>
                  <a:pt x="891" y="354"/>
                </a:cubicBezTo>
                <a:cubicBezTo>
                  <a:pt x="919" y="346"/>
                  <a:pt x="1113" y="0"/>
                  <a:pt x="1141" y="4"/>
                </a:cubicBezTo>
                <a:cubicBezTo>
                  <a:pt x="1169" y="8"/>
                  <a:pt x="1032" y="374"/>
                  <a:pt x="1058" y="379"/>
                </a:cubicBezTo>
                <a:cubicBezTo>
                  <a:pt x="1084" y="384"/>
                  <a:pt x="1271" y="44"/>
                  <a:pt x="1300" y="37"/>
                </a:cubicBezTo>
                <a:cubicBezTo>
                  <a:pt x="1329" y="30"/>
                  <a:pt x="1196" y="336"/>
                  <a:pt x="1233" y="337"/>
                </a:cubicBezTo>
                <a:cubicBezTo>
                  <a:pt x="1270" y="338"/>
                  <a:pt x="1397" y="191"/>
                  <a:pt x="1525" y="4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7391520" y="64008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rcRect l="0" t="0" r="902" b="3773"/>
          <a:stretch/>
        </p:blipFill>
        <p:spPr>
          <a:xfrm>
            <a:off x="3630600" y="2666880"/>
            <a:ext cx="5513400" cy="396252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4a40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4a402"/>
                </a:solidFill>
                <a:uFillTx/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(like cell respiration!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mbrane-bound proteins in organel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ectron accept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on (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 acros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ATP synthas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stem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59" name="Picture 3" descr=""/>
          <p:cNvPicPr/>
          <p:nvPr/>
        </p:nvPicPr>
        <p:blipFill>
          <a:blip r:embed="rId1"/>
          <a:srcRect l="0" t="0" r="0" b="9055"/>
          <a:stretch/>
        </p:blipFill>
        <p:spPr>
          <a:xfrm>
            <a:off x="4951440" y="3733920"/>
            <a:ext cx="4116240" cy="274140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photosystems in thylakoid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ct as light-gathering “antenna complex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otosystem I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lorophyll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68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68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Photosystem 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chlorophyll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70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70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4917960" y="2843280"/>
            <a:ext cx="1468440" cy="885960"/>
          </a:xfrm>
          <a:prstGeom prst="rect">
            <a:avLst/>
          </a:prstGeom>
          <a:solidFill>
            <a:srgbClr val="b5ddbd"/>
          </a:solidFill>
          <a:ln w="9360">
            <a:solidFill>
              <a:srgbClr val="00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700"/>
                </a:solidFill>
                <a:latin typeface="Arial"/>
              </a:rPr>
              <a:t>reaction</a:t>
            </a:r>
            <a:br>
              <a:rPr sz="2600"/>
            </a:br>
            <a:r>
              <a:rPr b="1" lang="en-US" sz="2600" spc="-1" strike="noStrike">
                <a:solidFill>
                  <a:srgbClr val="006700"/>
                </a:solidFill>
                <a:latin typeface="Arial"/>
              </a:rPr>
              <a:t>center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662" name="Straight Arrow Connector 2"/>
          <p:cNvCxnSpPr/>
          <p:nvPr/>
        </p:nvCxnSpPr>
        <p:spPr>
          <a:xfrm>
            <a:off x="5791320" y="3733560"/>
            <a:ext cx="762480" cy="991080"/>
          </a:xfrm>
          <a:prstGeom prst="straightConnector1">
            <a:avLst/>
          </a:prstGeom>
          <a:ln w="38160">
            <a:solidFill>
              <a:srgbClr val="00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4:19:13Z</dcterms:created>
  <dc:creator>Kim Foglia</dc:creator>
  <dc:description>All Rights Reserved. Copyright 2003. WD Interactive.</dc:description>
  <cp:keywords>Education Biology Zone Kim Foglia</cp:keywords>
  <dc:language>en-US</dc:language>
  <cp:lastModifiedBy>Lisa</cp:lastModifiedBy>
  <cp:lastPrinted>2005-11-29T04:47:15Z</cp:lastPrinted>
  <dcterms:modified xsi:type="dcterms:W3CDTF">2014-10-23T04:04:58Z</dcterms:modified>
  <cp:revision>48</cp:revision>
  <dc:subject>AP &amp; Regents Biology</dc:subject>
  <dc:title>PowerPoint Presentation</dc:title>
</cp:coreProperties>
</file>